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13A-2915-4C97-8689-6961A6DF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3BE-2CBD-4E81-8DF7-B13C5A0D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221-06FD-43A5-AE22-525B6822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D0D-4BE0-40D2-A850-E1FC4BF0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8A5-665A-4F33-90C4-7C1AAE44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AB6-F7E8-4554-BE98-994B8A39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409A-1D8A-4D62-946E-53CCB9A8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684-5146-4F99-9A4E-2D42E6FF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E8B-103E-43C4-9711-45CB3FB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A81-63C2-4B3F-879C-AF414EFC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E49-A8F9-4C01-BF9A-9B2E04C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C19-B374-40F9-9E23-66BC1F7F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44E-B4E4-4B89-84D8-E327AEBB1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49160" y="2311560"/>
            <a:ext cx="1726920" cy="2120400"/>
            <a:chOff x="749160" y="2311560"/>
            <a:chExt cx="1726920" cy="2120400"/>
          </a:xfrm>
        </p:grpSpPr>
        <p:sp>
          <p:nvSpPr>
            <p:cNvPr id="42" name=""/>
            <p:cNvSpPr/>
            <p:nvPr/>
          </p:nvSpPr>
          <p:spPr>
            <a:xfrm>
              <a:off x="749160" y="2311560"/>
              <a:ext cx="1726920" cy="2120400"/>
            </a:xfrm>
            <a:custGeom>
              <a:avLst/>
              <a:gdLst/>
              <a:ahLst/>
              <a:rect l="l" t="t" r="r" b="b"/>
              <a:pathLst>
                <a:path w="1076" h="1320">
                  <a:moveTo>
                    <a:pt x="0" y="53"/>
                  </a:moveTo>
                  <a:lnTo>
                    <a:pt x="53" y="0"/>
                  </a:lnTo>
                  <a:lnTo>
                    <a:pt x="1022" y="0"/>
                  </a:lnTo>
                  <a:lnTo>
                    <a:pt x="1076" y="53"/>
                  </a:lnTo>
                  <a:lnTo>
                    <a:pt x="1076" y="1267"/>
                  </a:lnTo>
                  <a:lnTo>
                    <a:pt x="1022" y="1320"/>
                  </a:lnTo>
                  <a:lnTo>
                    <a:pt x="53" y="1320"/>
                  </a:lnTo>
                  <a:lnTo>
                    <a:pt x="0" y="12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160" y="2311560"/>
              <a:ext cx="1726920" cy="2120400"/>
            </a:xfrm>
            <a:custGeom>
              <a:avLst/>
              <a:gdLst/>
              <a:ahLst/>
              <a:rect l="l" t="t" r="r" b="b"/>
              <a:pathLst>
                <a:path w="1076" h="1320">
                  <a:moveTo>
                    <a:pt x="0" y="53"/>
                  </a:moveTo>
                  <a:lnTo>
                    <a:pt x="53" y="0"/>
                  </a:lnTo>
                  <a:lnTo>
                    <a:pt x="1022" y="0"/>
                  </a:lnTo>
                  <a:lnTo>
                    <a:pt x="1076" y="53"/>
                  </a:lnTo>
                  <a:lnTo>
                    <a:pt x="1076" y="1267"/>
                  </a:lnTo>
                  <a:lnTo>
                    <a:pt x="1022" y="1320"/>
                  </a:lnTo>
                  <a:lnTo>
                    <a:pt x="53" y="1320"/>
                  </a:lnTo>
                  <a:lnTo>
                    <a:pt x="0" y="1267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91960" y="291960"/>
            <a:ext cx="1422360" cy="1117440"/>
            <a:chOff x="291960" y="291960"/>
            <a:chExt cx="1422360" cy="1117440"/>
          </a:xfrm>
        </p:grpSpPr>
        <p:sp>
          <p:nvSpPr>
            <p:cNvPr id="45" name=""/>
            <p:cNvSpPr/>
            <p:nvPr/>
          </p:nvSpPr>
          <p:spPr>
            <a:xfrm>
              <a:off x="291960" y="291960"/>
              <a:ext cx="1422360" cy="111744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1960" y="291960"/>
              <a:ext cx="1422360" cy="111744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14400" y="2502000"/>
            <a:ext cx="1422000" cy="1117080"/>
            <a:chOff x="914400" y="2502000"/>
            <a:chExt cx="1422000" cy="1117080"/>
          </a:xfrm>
        </p:grpSpPr>
        <p:sp>
          <p:nvSpPr>
            <p:cNvPr id="48" name=""/>
            <p:cNvSpPr/>
            <p:nvPr/>
          </p:nvSpPr>
          <p:spPr>
            <a:xfrm>
              <a:off x="914400" y="2502000"/>
              <a:ext cx="1422000" cy="11170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2502000"/>
              <a:ext cx="1422000" cy="11170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0720" y="520560"/>
            <a:ext cx="1099800" cy="632520"/>
            <a:chOff x="450720" y="520560"/>
            <a:chExt cx="1099800" cy="632520"/>
          </a:xfrm>
        </p:grpSpPr>
        <p:sp>
          <p:nvSpPr>
            <p:cNvPr id="51" name=""/>
            <p:cNvSpPr/>
            <p:nvPr/>
          </p:nvSpPr>
          <p:spPr>
            <a:xfrm>
              <a:off x="655560" y="736560"/>
              <a:ext cx="6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1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19120" y="614520"/>
              <a:ext cx="395280" cy="90720"/>
              <a:chOff x="519120" y="614520"/>
              <a:chExt cx="395280" cy="90720"/>
            </a:xfrm>
          </p:grpSpPr>
          <p:sp>
            <p:nvSpPr>
              <p:cNvPr id="53" name=""/>
              <p:cNvSpPr/>
              <p:nvPr/>
            </p:nvSpPr>
            <p:spPr>
              <a:xfrm>
                <a:off x="519120" y="614520"/>
                <a:ext cx="395280" cy="9072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9120" y="614520"/>
                <a:ext cx="395280" cy="9072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97160" y="52056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55760" y="932040"/>
              <a:ext cx="520560" cy="148320"/>
              <a:chOff x="455760" y="932040"/>
              <a:chExt cx="520560" cy="148320"/>
            </a:xfrm>
          </p:grpSpPr>
          <p:sp>
            <p:nvSpPr>
              <p:cNvPr id="57" name=""/>
              <p:cNvSpPr/>
              <p:nvPr/>
            </p:nvSpPr>
            <p:spPr>
              <a:xfrm>
                <a:off x="45576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56120" y="95256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0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014480" y="932040"/>
              <a:ext cx="520560" cy="148320"/>
              <a:chOff x="1014480" y="932040"/>
              <a:chExt cx="520560" cy="148320"/>
            </a:xfrm>
          </p:grpSpPr>
          <p:sp>
            <p:nvSpPr>
              <p:cNvPr id="61" name=""/>
              <p:cNvSpPr/>
              <p:nvPr/>
            </p:nvSpPr>
            <p:spPr>
              <a:xfrm>
                <a:off x="101448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1448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014840" y="95256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720" y="657720"/>
              <a:ext cx="1087560" cy="34308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720" y="657720"/>
              <a:ext cx="1087560" cy="34308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55560" y="73656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1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7960" y="533520"/>
            <a:ext cx="418680" cy="151920"/>
            <a:chOff x="507960" y="533520"/>
            <a:chExt cx="418680" cy="151920"/>
          </a:xfrm>
        </p:grpSpPr>
        <p:sp>
          <p:nvSpPr>
            <p:cNvPr id="68" name=""/>
            <p:cNvSpPr/>
            <p:nvPr/>
          </p:nvSpPr>
          <p:spPr>
            <a:xfrm>
              <a:off x="507960" y="53352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960" y="53352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7160" y="52056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44600" y="965160"/>
            <a:ext cx="545760" cy="228240"/>
            <a:chOff x="444600" y="965160"/>
            <a:chExt cx="545760" cy="228240"/>
          </a:xfrm>
        </p:grpSpPr>
        <p:sp>
          <p:nvSpPr>
            <p:cNvPr id="72" name=""/>
            <p:cNvSpPr/>
            <p:nvPr/>
          </p:nvSpPr>
          <p:spPr>
            <a:xfrm>
              <a:off x="44460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460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6120" y="95256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03320" y="965160"/>
            <a:ext cx="545760" cy="228240"/>
            <a:chOff x="1003320" y="965160"/>
            <a:chExt cx="545760" cy="228240"/>
          </a:xfrm>
        </p:grpSpPr>
        <p:sp>
          <p:nvSpPr>
            <p:cNvPr id="76" name=""/>
            <p:cNvSpPr/>
            <p:nvPr/>
          </p:nvSpPr>
          <p:spPr>
            <a:xfrm>
              <a:off x="100332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0332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014840" y="95256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73160" y="2730600"/>
            <a:ext cx="1099800" cy="632160"/>
            <a:chOff x="1073160" y="2730600"/>
            <a:chExt cx="1099800" cy="632160"/>
          </a:xfrm>
        </p:grpSpPr>
        <p:sp>
          <p:nvSpPr>
            <p:cNvPr id="80" name=""/>
            <p:cNvSpPr/>
            <p:nvPr/>
          </p:nvSpPr>
          <p:spPr>
            <a:xfrm>
              <a:off x="1277640" y="2946240"/>
              <a:ext cx="6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1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420920" y="2823840"/>
              <a:ext cx="395280" cy="91080"/>
              <a:chOff x="1420920" y="2823840"/>
              <a:chExt cx="395280" cy="91080"/>
            </a:xfrm>
          </p:grpSpPr>
          <p:sp>
            <p:nvSpPr>
              <p:cNvPr id="82" name=""/>
              <p:cNvSpPr/>
              <p:nvPr/>
            </p:nvSpPr>
            <p:spPr>
              <a:xfrm>
                <a:off x="1420920" y="2823840"/>
                <a:ext cx="395280" cy="91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20920" y="2823840"/>
                <a:ext cx="395280" cy="91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398960" y="273060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077840" y="3141720"/>
              <a:ext cx="520920" cy="148320"/>
              <a:chOff x="1077840" y="3141720"/>
              <a:chExt cx="520920" cy="148320"/>
            </a:xfrm>
          </p:grpSpPr>
          <p:sp>
            <p:nvSpPr>
              <p:cNvPr id="86" name=""/>
              <p:cNvSpPr/>
              <p:nvPr/>
            </p:nvSpPr>
            <p:spPr>
              <a:xfrm>
                <a:off x="107784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7784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78200" y="316224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0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636560" y="3141720"/>
              <a:ext cx="520920" cy="148320"/>
              <a:chOff x="1636560" y="3141720"/>
              <a:chExt cx="520920" cy="148320"/>
            </a:xfrm>
          </p:grpSpPr>
          <p:sp>
            <p:nvSpPr>
              <p:cNvPr id="90" name=""/>
              <p:cNvSpPr/>
              <p:nvPr/>
            </p:nvSpPr>
            <p:spPr>
              <a:xfrm>
                <a:off x="163656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3656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637280" y="316224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2867040"/>
              <a:ext cx="1087560" cy="34344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3160" y="2867040"/>
              <a:ext cx="1087560" cy="34344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77640" y="294624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1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09760" y="2743200"/>
            <a:ext cx="418680" cy="151920"/>
            <a:chOff x="1409760" y="2743200"/>
            <a:chExt cx="418680" cy="151920"/>
          </a:xfrm>
        </p:grpSpPr>
        <p:sp>
          <p:nvSpPr>
            <p:cNvPr id="97" name=""/>
            <p:cNvSpPr/>
            <p:nvPr/>
          </p:nvSpPr>
          <p:spPr>
            <a:xfrm>
              <a:off x="1409760" y="274320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9760" y="274320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98960" y="273060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6680" y="3174840"/>
            <a:ext cx="545760" cy="228240"/>
            <a:chOff x="1066680" y="3174840"/>
            <a:chExt cx="545760" cy="228240"/>
          </a:xfrm>
        </p:grpSpPr>
        <p:sp>
          <p:nvSpPr>
            <p:cNvPr id="101" name=""/>
            <p:cNvSpPr/>
            <p:nvPr/>
          </p:nvSpPr>
          <p:spPr>
            <a:xfrm>
              <a:off x="106668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78200" y="316224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25760" y="3174840"/>
            <a:ext cx="545760" cy="228240"/>
            <a:chOff x="1625760" y="3174840"/>
            <a:chExt cx="545760" cy="228240"/>
          </a:xfrm>
        </p:grpSpPr>
        <p:sp>
          <p:nvSpPr>
            <p:cNvPr id="105" name=""/>
            <p:cNvSpPr/>
            <p:nvPr/>
          </p:nvSpPr>
          <p:spPr>
            <a:xfrm>
              <a:off x="162576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2576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37280" y="316224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88000" y="5486400"/>
            <a:ext cx="964800" cy="583920"/>
            <a:chOff x="4788000" y="5486400"/>
            <a:chExt cx="964800" cy="583920"/>
          </a:xfrm>
        </p:grpSpPr>
        <p:sp>
          <p:nvSpPr>
            <p:cNvPr id="109" name=""/>
            <p:cNvSpPr/>
            <p:nvPr/>
          </p:nvSpPr>
          <p:spPr>
            <a:xfrm>
              <a:off x="5028480" y="570240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068800" y="5596200"/>
              <a:ext cx="408960" cy="109080"/>
              <a:chOff x="5068800" y="5596200"/>
              <a:chExt cx="408960" cy="109080"/>
            </a:xfrm>
          </p:grpSpPr>
          <p:sp>
            <p:nvSpPr>
              <p:cNvPr id="111" name=""/>
              <p:cNvSpPr/>
              <p:nvPr/>
            </p:nvSpPr>
            <p:spPr>
              <a:xfrm>
                <a:off x="5068800" y="5596200"/>
                <a:ext cx="408960" cy="109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8800" y="5596200"/>
                <a:ext cx="408960" cy="109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043960" y="548640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5659200"/>
              <a:ext cx="964800" cy="41112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550" y="293"/>
                  </a:lnTo>
                  <a:cubicBezTo>
                    <a:pt x="570" y="293"/>
                    <a:pt x="587" y="277"/>
                    <a:pt x="587" y="256"/>
                  </a:cubicBezTo>
                  <a:lnTo>
                    <a:pt x="587" y="36"/>
                  </a:lnTo>
                  <a:cubicBezTo>
                    <a:pt x="587" y="16"/>
                    <a:pt x="570" y="0"/>
                    <a:pt x="550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5659200"/>
              <a:ext cx="964800" cy="41112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550" y="293"/>
                  </a:lnTo>
                  <a:cubicBezTo>
                    <a:pt x="570" y="293"/>
                    <a:pt x="587" y="277"/>
                    <a:pt x="587" y="256"/>
                  </a:cubicBezTo>
                  <a:lnTo>
                    <a:pt x="587" y="36"/>
                  </a:lnTo>
                  <a:cubicBezTo>
                    <a:pt x="587" y="16"/>
                    <a:pt x="570" y="0"/>
                    <a:pt x="550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028480" y="570240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54760" y="5499000"/>
            <a:ext cx="418680" cy="152280"/>
            <a:chOff x="5054760" y="5499000"/>
            <a:chExt cx="418680" cy="152280"/>
          </a:xfrm>
        </p:grpSpPr>
        <p:sp>
          <p:nvSpPr>
            <p:cNvPr id="118" name=""/>
            <p:cNvSpPr/>
            <p:nvPr/>
          </p:nvSpPr>
          <p:spPr>
            <a:xfrm>
              <a:off x="5054760" y="5499000"/>
              <a:ext cx="418680" cy="15228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4760" y="5499000"/>
              <a:ext cx="418680" cy="15228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43960" y="548640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84680" y="3086280"/>
            <a:ext cx="952200" cy="570960"/>
            <a:chOff x="3784680" y="3086280"/>
            <a:chExt cx="952200" cy="570960"/>
          </a:xfrm>
        </p:grpSpPr>
        <p:sp>
          <p:nvSpPr>
            <p:cNvPr id="122" name=""/>
            <p:cNvSpPr/>
            <p:nvPr/>
          </p:nvSpPr>
          <p:spPr>
            <a:xfrm>
              <a:off x="4025520" y="330192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048920" y="3183480"/>
              <a:ext cx="419760" cy="111600"/>
              <a:chOff x="4048920" y="3183480"/>
              <a:chExt cx="419760" cy="111600"/>
            </a:xfrm>
          </p:grpSpPr>
          <p:sp>
            <p:nvSpPr>
              <p:cNvPr id="124" name=""/>
              <p:cNvSpPr/>
              <p:nvPr/>
            </p:nvSpPr>
            <p:spPr>
              <a:xfrm>
                <a:off x="4048920" y="3183480"/>
                <a:ext cx="419760" cy="111600"/>
              </a:xfrm>
              <a:custGeom>
                <a:avLst/>
                <a:gdLst/>
                <a:ahLst/>
                <a:rect l="l" t="t" r="r" b="b"/>
                <a:pathLst>
                  <a:path w="259" h="78">
                    <a:moveTo>
                      <a:pt x="0" y="0"/>
                    </a:moveTo>
                    <a:lnTo>
                      <a:pt x="259" y="0"/>
                    </a:lnTo>
                    <a:lnTo>
                      <a:pt x="25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48920" y="3183480"/>
                <a:ext cx="419760" cy="111600"/>
              </a:xfrm>
              <a:custGeom>
                <a:avLst/>
                <a:gdLst/>
                <a:ahLst/>
                <a:rect l="l" t="t" r="r" b="b"/>
                <a:pathLst>
                  <a:path w="259" h="78">
                    <a:moveTo>
                      <a:pt x="0" y="0"/>
                    </a:moveTo>
                    <a:lnTo>
                      <a:pt x="259" y="0"/>
                    </a:lnTo>
                    <a:lnTo>
                      <a:pt x="25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026600" y="308628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e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84680" y="323640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84680" y="323640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025520" y="330192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038480" y="3098880"/>
            <a:ext cx="431640" cy="151920"/>
            <a:chOff x="4038480" y="3098880"/>
            <a:chExt cx="431640" cy="151920"/>
          </a:xfrm>
        </p:grpSpPr>
        <p:sp>
          <p:nvSpPr>
            <p:cNvPr id="131" name=""/>
            <p:cNvSpPr/>
            <p:nvPr/>
          </p:nvSpPr>
          <p:spPr>
            <a:xfrm>
              <a:off x="4038480" y="3098880"/>
              <a:ext cx="431640" cy="151920"/>
            </a:xfrm>
            <a:custGeom>
              <a:avLst/>
              <a:gdLst/>
              <a:ahLst/>
              <a:rect l="l" t="t" r="r" b="b"/>
              <a:pathLst>
                <a:path w="259" h="78">
                  <a:moveTo>
                    <a:pt x="0" y="0"/>
                  </a:moveTo>
                  <a:lnTo>
                    <a:pt x="259" y="0"/>
                  </a:lnTo>
                  <a:lnTo>
                    <a:pt x="25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3098880"/>
              <a:ext cx="431640" cy="151920"/>
            </a:xfrm>
            <a:custGeom>
              <a:avLst/>
              <a:gdLst/>
              <a:ahLst/>
              <a:rect l="l" t="t" r="r" b="b"/>
              <a:pathLst>
                <a:path w="259" h="78">
                  <a:moveTo>
                    <a:pt x="0" y="0"/>
                  </a:moveTo>
                  <a:lnTo>
                    <a:pt x="259" y="0"/>
                  </a:lnTo>
                  <a:lnTo>
                    <a:pt x="25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026600" y="3086280"/>
            <a:ext cx="46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60640" y="4559400"/>
            <a:ext cx="952200" cy="570960"/>
            <a:chOff x="3860640" y="4559400"/>
            <a:chExt cx="952200" cy="570960"/>
          </a:xfrm>
        </p:grpSpPr>
        <p:sp>
          <p:nvSpPr>
            <p:cNvPr id="135" name=""/>
            <p:cNvSpPr/>
            <p:nvPr/>
          </p:nvSpPr>
          <p:spPr>
            <a:xfrm>
              <a:off x="4101480" y="477504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098960" y="4656600"/>
              <a:ext cx="482760" cy="111600"/>
              <a:chOff x="4098960" y="4656600"/>
              <a:chExt cx="482760" cy="111600"/>
            </a:xfrm>
          </p:grpSpPr>
          <p:sp>
            <p:nvSpPr>
              <p:cNvPr id="137" name=""/>
              <p:cNvSpPr/>
              <p:nvPr/>
            </p:nvSpPr>
            <p:spPr>
              <a:xfrm>
                <a:off x="4098960" y="4656600"/>
                <a:ext cx="482760" cy="111600"/>
              </a:xfrm>
              <a:custGeom>
                <a:avLst/>
                <a:gdLst/>
                <a:ahLst/>
                <a:rect l="l" t="t" r="r" b="b"/>
                <a:pathLst>
                  <a:path w="298" h="78">
                    <a:moveTo>
                      <a:pt x="0" y="0"/>
                    </a:moveTo>
                    <a:lnTo>
                      <a:pt x="298" y="0"/>
                    </a:lnTo>
                    <a:lnTo>
                      <a:pt x="298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98960" y="4656600"/>
                <a:ext cx="482760" cy="111600"/>
              </a:xfrm>
              <a:custGeom>
                <a:avLst/>
                <a:gdLst/>
                <a:ahLst/>
                <a:rect l="l" t="t" r="r" b="b"/>
                <a:pathLst>
                  <a:path w="298" h="78">
                    <a:moveTo>
                      <a:pt x="0" y="0"/>
                    </a:moveTo>
                    <a:lnTo>
                      <a:pt x="298" y="0"/>
                    </a:lnTo>
                    <a:lnTo>
                      <a:pt x="298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076280" y="4559400"/>
              <a:ext cx="534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mR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60640" y="470952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0640" y="470952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01480" y="477504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89240" y="4572000"/>
            <a:ext cx="495000" cy="151920"/>
            <a:chOff x="4089240" y="4572000"/>
            <a:chExt cx="495000" cy="151920"/>
          </a:xfrm>
        </p:grpSpPr>
        <p:sp>
          <p:nvSpPr>
            <p:cNvPr id="144" name=""/>
            <p:cNvSpPr/>
            <p:nvPr/>
          </p:nvSpPr>
          <p:spPr>
            <a:xfrm>
              <a:off x="4089240" y="4572000"/>
              <a:ext cx="495000" cy="151920"/>
            </a:xfrm>
            <a:custGeom>
              <a:avLst/>
              <a:gdLst/>
              <a:ahLst/>
              <a:rect l="l" t="t" r="r" b="b"/>
              <a:pathLst>
                <a:path w="298" h="78">
                  <a:moveTo>
                    <a:pt x="0" y="0"/>
                  </a:moveTo>
                  <a:lnTo>
                    <a:pt x="298" y="0"/>
                  </a:lnTo>
                  <a:lnTo>
                    <a:pt x="29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9240" y="4572000"/>
              <a:ext cx="495000" cy="151920"/>
            </a:xfrm>
            <a:custGeom>
              <a:avLst/>
              <a:gdLst/>
              <a:ahLst/>
              <a:rect l="l" t="t" r="r" b="b"/>
              <a:pathLst>
                <a:path w="298" h="78">
                  <a:moveTo>
                    <a:pt x="0" y="0"/>
                  </a:moveTo>
                  <a:lnTo>
                    <a:pt x="298" y="0"/>
                  </a:lnTo>
                  <a:lnTo>
                    <a:pt x="29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076280" y="4559400"/>
            <a:ext cx="53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mR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3000" y="3695760"/>
            <a:ext cx="952200" cy="583920"/>
            <a:chOff x="1143000" y="3695760"/>
            <a:chExt cx="952200" cy="583920"/>
          </a:xfrm>
        </p:grpSpPr>
        <p:sp>
          <p:nvSpPr>
            <p:cNvPr id="148" name=""/>
            <p:cNvSpPr/>
            <p:nvPr/>
          </p:nvSpPr>
          <p:spPr>
            <a:xfrm>
              <a:off x="1206000" y="39243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-G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459440" y="3805560"/>
              <a:ext cx="317520" cy="109080"/>
              <a:chOff x="1459440" y="3805560"/>
              <a:chExt cx="317520" cy="109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459440" y="3805560"/>
                <a:ext cx="317520" cy="10908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59440" y="3805560"/>
                <a:ext cx="317520" cy="10908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429200" y="36957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r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3868200"/>
              <a:ext cx="952200" cy="411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3868200"/>
              <a:ext cx="952200" cy="411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206000" y="3924360"/>
            <a:ext cx="82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-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47920" y="3708360"/>
            <a:ext cx="329760" cy="151920"/>
            <a:chOff x="1447920" y="3708360"/>
            <a:chExt cx="329760" cy="151920"/>
          </a:xfrm>
        </p:grpSpPr>
        <p:sp>
          <p:nvSpPr>
            <p:cNvPr id="157" name=""/>
            <p:cNvSpPr/>
            <p:nvPr/>
          </p:nvSpPr>
          <p:spPr>
            <a:xfrm>
              <a:off x="1447920" y="370836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370836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29200" y="3695760"/>
            <a:ext cx="38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r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70000" y="520560"/>
            <a:ext cx="952200" cy="571320"/>
            <a:chOff x="2070000" y="520560"/>
            <a:chExt cx="952200" cy="571320"/>
          </a:xfrm>
        </p:grpSpPr>
        <p:sp>
          <p:nvSpPr>
            <p:cNvPr id="161" name=""/>
            <p:cNvSpPr/>
            <p:nvPr/>
          </p:nvSpPr>
          <p:spPr>
            <a:xfrm>
              <a:off x="2145600" y="7365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-G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152800" y="618480"/>
              <a:ext cx="317520" cy="111240"/>
              <a:chOff x="2152800" y="618480"/>
              <a:chExt cx="317520" cy="1112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52800" y="618480"/>
                <a:ext cx="317520" cy="11124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52800" y="618480"/>
                <a:ext cx="317520" cy="11124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27600" y="5205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r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70000" y="671400"/>
              <a:ext cx="952200" cy="420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671400"/>
              <a:ext cx="952200" cy="420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45600" y="736560"/>
            <a:ext cx="82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-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46320" y="533520"/>
            <a:ext cx="329760" cy="151920"/>
            <a:chOff x="2146320" y="533520"/>
            <a:chExt cx="329760" cy="151920"/>
          </a:xfrm>
        </p:grpSpPr>
        <p:sp>
          <p:nvSpPr>
            <p:cNvPr id="170" name=""/>
            <p:cNvSpPr/>
            <p:nvPr/>
          </p:nvSpPr>
          <p:spPr>
            <a:xfrm>
              <a:off x="2146320" y="53352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6320" y="53352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27600" y="520560"/>
            <a:ext cx="38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r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87520" y="4635360"/>
            <a:ext cx="495000" cy="495000"/>
            <a:chOff x="2387520" y="4635360"/>
            <a:chExt cx="495000" cy="495000"/>
          </a:xfrm>
        </p:grpSpPr>
        <p:sp>
          <p:nvSpPr>
            <p:cNvPr id="174" name=""/>
            <p:cNvSpPr/>
            <p:nvPr/>
          </p:nvSpPr>
          <p:spPr>
            <a:xfrm>
              <a:off x="2387520" y="4635360"/>
              <a:ext cx="486720" cy="4863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87520" y="4635360"/>
              <a:ext cx="486720" cy="4863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7520" y="463536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7520" y="463536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90840" y="5575320"/>
            <a:ext cx="495000" cy="495000"/>
            <a:chOff x="3390840" y="5575320"/>
            <a:chExt cx="495000" cy="495000"/>
          </a:xfrm>
        </p:grpSpPr>
        <p:sp>
          <p:nvSpPr>
            <p:cNvPr id="179" name=""/>
            <p:cNvSpPr/>
            <p:nvPr/>
          </p:nvSpPr>
          <p:spPr>
            <a:xfrm>
              <a:off x="3390840" y="5575320"/>
              <a:ext cx="486720" cy="48672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90840" y="5575320"/>
              <a:ext cx="486720" cy="48672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0840" y="557532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90840" y="557532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9480" y="3860640"/>
            <a:ext cx="421560" cy="342720"/>
            <a:chOff x="3129480" y="3860640"/>
            <a:chExt cx="421560" cy="342720"/>
          </a:xfrm>
        </p:grpSpPr>
        <p:sp>
          <p:nvSpPr>
            <p:cNvPr id="184" name=""/>
            <p:cNvSpPr/>
            <p:nvPr/>
          </p:nvSpPr>
          <p:spPr>
            <a:xfrm>
              <a:off x="3129480" y="3936960"/>
              <a:ext cx="42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62240" y="3860640"/>
              <a:ext cx="316800" cy="3427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97"/>
                  </a:moveTo>
                  <a:cubicBezTo>
                    <a:pt x="195" y="151"/>
                    <a:pt x="151" y="195"/>
                    <a:pt x="97" y="195"/>
                  </a:cubicBezTo>
                  <a:cubicBezTo>
                    <a:pt x="43" y="195"/>
                    <a:pt x="0" y="151"/>
                    <a:pt x="0" y="97"/>
                  </a:cubicBezTo>
                  <a:cubicBezTo>
                    <a:pt x="0" y="43"/>
                    <a:pt x="43" y="0"/>
                    <a:pt x="97" y="0"/>
                  </a:cubicBezTo>
                  <a:cubicBezTo>
                    <a:pt x="151" y="0"/>
                    <a:pt x="195" y="43"/>
                    <a:pt x="195" y="97"/>
                  </a:cubicBezTo>
                  <a:lnTo>
                    <a:pt x="195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62240" y="3860640"/>
              <a:ext cx="316800" cy="3427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97"/>
                  </a:moveTo>
                  <a:cubicBezTo>
                    <a:pt x="195" y="151"/>
                    <a:pt x="151" y="195"/>
                    <a:pt x="97" y="195"/>
                  </a:cubicBezTo>
                  <a:cubicBezTo>
                    <a:pt x="43" y="195"/>
                    <a:pt x="0" y="151"/>
                    <a:pt x="0" y="97"/>
                  </a:cubicBezTo>
                  <a:cubicBezTo>
                    <a:pt x="0" y="43"/>
                    <a:pt x="43" y="0"/>
                    <a:pt x="97" y="0"/>
                  </a:cubicBezTo>
                  <a:cubicBezTo>
                    <a:pt x="151" y="0"/>
                    <a:pt x="195" y="43"/>
                    <a:pt x="195" y="97"/>
                  </a:cubicBezTo>
                  <a:lnTo>
                    <a:pt x="195" y="9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129480" y="393696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38560" y="4788000"/>
            <a:ext cx="190080" cy="190080"/>
            <a:chOff x="3238560" y="4788000"/>
            <a:chExt cx="190080" cy="190080"/>
          </a:xfrm>
        </p:grpSpPr>
        <p:sp>
          <p:nvSpPr>
            <p:cNvPr id="189" name=""/>
            <p:cNvSpPr/>
            <p:nvPr/>
          </p:nvSpPr>
          <p:spPr>
            <a:xfrm>
              <a:off x="3238560" y="47880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38560" y="47880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6840" y="1689120"/>
            <a:ext cx="190080" cy="190080"/>
            <a:chOff x="1536840" y="1689120"/>
            <a:chExt cx="190080" cy="190080"/>
          </a:xfrm>
        </p:grpSpPr>
        <p:sp>
          <p:nvSpPr>
            <p:cNvPr id="192" name=""/>
            <p:cNvSpPr/>
            <p:nvPr/>
          </p:nvSpPr>
          <p:spPr>
            <a:xfrm>
              <a:off x="1536840" y="168912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48"/>
                  </a:moveTo>
                  <a:cubicBezTo>
                    <a:pt x="97" y="75"/>
                    <a:pt x="75" y="97"/>
                    <a:pt x="48" y="97"/>
                  </a:cubicBezTo>
                  <a:cubicBezTo>
                    <a:pt x="21" y="97"/>
                    <a:pt x="0" y="75"/>
                    <a:pt x="0" y="48"/>
                  </a:cubicBezTo>
                  <a:cubicBezTo>
                    <a:pt x="0" y="21"/>
                    <a:pt x="21" y="0"/>
                    <a:pt x="48" y="0"/>
                  </a:cubicBezTo>
                  <a:cubicBezTo>
                    <a:pt x="75" y="0"/>
                    <a:pt x="97" y="21"/>
                    <a:pt x="97" y="48"/>
                  </a:cubicBezTo>
                  <a:lnTo>
                    <a:pt x="9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36840" y="168912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48"/>
                  </a:moveTo>
                  <a:cubicBezTo>
                    <a:pt x="97" y="75"/>
                    <a:pt x="75" y="97"/>
                    <a:pt x="48" y="97"/>
                  </a:cubicBezTo>
                  <a:cubicBezTo>
                    <a:pt x="21" y="97"/>
                    <a:pt x="0" y="75"/>
                    <a:pt x="0" y="48"/>
                  </a:cubicBezTo>
                  <a:cubicBezTo>
                    <a:pt x="0" y="21"/>
                    <a:pt x="21" y="0"/>
                    <a:pt x="48" y="0"/>
                  </a:cubicBezTo>
                  <a:cubicBezTo>
                    <a:pt x="75" y="0"/>
                    <a:pt x="97" y="21"/>
                    <a:pt x="97" y="48"/>
                  </a:cubicBezTo>
                  <a:lnTo>
                    <a:pt x="97" y="4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54480" y="5727600"/>
            <a:ext cx="190080" cy="190080"/>
            <a:chOff x="4254480" y="5727600"/>
            <a:chExt cx="190080" cy="190080"/>
          </a:xfrm>
        </p:grpSpPr>
        <p:sp>
          <p:nvSpPr>
            <p:cNvPr id="195" name=""/>
            <p:cNvSpPr/>
            <p:nvPr/>
          </p:nvSpPr>
          <p:spPr>
            <a:xfrm>
              <a:off x="4254480" y="57276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57276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14880" y="3556080"/>
            <a:ext cx="494640" cy="329760"/>
            <a:chOff x="3314880" y="3556080"/>
            <a:chExt cx="494640" cy="329760"/>
          </a:xfrm>
        </p:grpSpPr>
        <p:sp>
          <p:nvSpPr>
            <p:cNvPr id="198" name=""/>
            <p:cNvSpPr/>
            <p:nvPr/>
          </p:nvSpPr>
          <p:spPr>
            <a:xfrm>
              <a:off x="3314880" y="3556080"/>
              <a:ext cx="494640" cy="329760"/>
            </a:xfrm>
            <a:custGeom>
              <a:avLst/>
              <a:gdLst/>
              <a:ahLst/>
              <a:rect l="l" t="t" r="r" b="b"/>
              <a:pathLst>
                <a:path w="295" h="189">
                  <a:moveTo>
                    <a:pt x="295" y="0"/>
                  </a:moveTo>
                  <a:lnTo>
                    <a:pt x="0" y="98"/>
                  </a:lnTo>
                  <a:lnTo>
                    <a:pt x="0" y="1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63840" y="3530520"/>
            <a:ext cx="875880" cy="342720"/>
            <a:chOff x="2463840" y="3530520"/>
            <a:chExt cx="875880" cy="342720"/>
          </a:xfrm>
        </p:grpSpPr>
        <p:sp>
          <p:nvSpPr>
            <p:cNvPr id="200" name=""/>
            <p:cNvSpPr/>
            <p:nvPr/>
          </p:nvSpPr>
          <p:spPr>
            <a:xfrm>
              <a:off x="2463840" y="3530520"/>
              <a:ext cx="875880" cy="342720"/>
            </a:xfrm>
            <a:custGeom>
              <a:avLst/>
              <a:gdLst/>
              <a:ahLst/>
              <a:rect l="l" t="t" r="r" b="b"/>
              <a:pathLst>
                <a:path w="538" h="200">
                  <a:moveTo>
                    <a:pt x="0" y="0"/>
                  </a:moveTo>
                  <a:lnTo>
                    <a:pt x="538" y="110"/>
                  </a:lnTo>
                  <a:lnTo>
                    <a:pt x="538" y="2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22360" y="1371600"/>
            <a:ext cx="215640" cy="317160"/>
            <a:chOff x="1422360" y="1371600"/>
            <a:chExt cx="215640" cy="317160"/>
          </a:xfrm>
        </p:grpSpPr>
        <p:sp>
          <p:nvSpPr>
            <p:cNvPr id="202" name=""/>
            <p:cNvSpPr/>
            <p:nvPr/>
          </p:nvSpPr>
          <p:spPr>
            <a:xfrm>
              <a:off x="1422360" y="1371600"/>
              <a:ext cx="215640" cy="317160"/>
            </a:xfrm>
            <a:custGeom>
              <a:avLst/>
              <a:gdLst/>
              <a:ahLst/>
              <a:rect l="l" t="t" r="r" b="b"/>
              <a:pathLst>
                <a:path w="117" h="188">
                  <a:moveTo>
                    <a:pt x="0" y="0"/>
                  </a:moveTo>
                  <a:lnTo>
                    <a:pt x="117" y="146"/>
                  </a:lnTo>
                  <a:lnTo>
                    <a:pt x="117" y="1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38560" y="4178160"/>
            <a:ext cx="190080" cy="609120"/>
            <a:chOff x="3238560" y="4178160"/>
            <a:chExt cx="190080" cy="609120"/>
          </a:xfrm>
        </p:grpSpPr>
        <p:sp>
          <p:nvSpPr>
            <p:cNvPr id="204" name=""/>
            <p:cNvSpPr/>
            <p:nvPr/>
          </p:nvSpPr>
          <p:spPr>
            <a:xfrm>
              <a:off x="3333600" y="4178160"/>
              <a:ext cx="360" cy="504360"/>
            </a:xfrm>
            <a:custGeom>
              <a:avLst/>
              <a:gdLst/>
              <a:ahLst/>
              <a:rect l="l" t="t" r="r" b="b"/>
              <a:pathLst>
                <a:path w="0" h="306">
                  <a:moveTo>
                    <a:pt x="0" y="0"/>
                  </a:moveTo>
                  <a:lnTo>
                    <a:pt x="0" y="90"/>
                  </a:lnTo>
                  <a:lnTo>
                    <a:pt x="0" y="30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38560" y="4629960"/>
              <a:ext cx="190080" cy="15732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38560" y="4629960"/>
              <a:ext cx="190080" cy="15732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241880" y="5105520"/>
            <a:ext cx="190080" cy="634680"/>
            <a:chOff x="4241880" y="5105520"/>
            <a:chExt cx="190080" cy="634680"/>
          </a:xfrm>
        </p:grpSpPr>
        <p:sp>
          <p:nvSpPr>
            <p:cNvPr id="208" name=""/>
            <p:cNvSpPr/>
            <p:nvPr/>
          </p:nvSpPr>
          <p:spPr>
            <a:xfrm>
              <a:off x="4336920" y="5105520"/>
              <a:ext cx="360" cy="527400"/>
            </a:xfrm>
            <a:custGeom>
              <a:avLst/>
              <a:gdLst/>
              <a:ahLst/>
              <a:rect l="l" t="t" r="r" b="b"/>
              <a:pathLst>
                <a:path w="0" h="314">
                  <a:moveTo>
                    <a:pt x="0" y="0"/>
                  </a:moveTo>
                  <a:lnTo>
                    <a:pt x="0" y="31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41880" y="5580720"/>
              <a:ext cx="190080" cy="15948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41880" y="5580720"/>
              <a:ext cx="190080" cy="15948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03440" y="4826160"/>
            <a:ext cx="482400" cy="101160"/>
            <a:chOff x="3403440" y="4826160"/>
            <a:chExt cx="482400" cy="101160"/>
          </a:xfrm>
        </p:grpSpPr>
        <p:sp>
          <p:nvSpPr>
            <p:cNvPr id="212" name=""/>
            <p:cNvSpPr/>
            <p:nvPr/>
          </p:nvSpPr>
          <p:spPr>
            <a:xfrm>
              <a:off x="3403440" y="4877640"/>
              <a:ext cx="400320" cy="360"/>
            </a:xfrm>
            <a:custGeom>
              <a:avLst/>
              <a:gdLst/>
              <a:ahLst/>
              <a:rect l="l" t="t" r="r" b="b"/>
              <a:pathLst>
                <a:path w="237" h="0">
                  <a:moveTo>
                    <a:pt x="0" y="0"/>
                  </a:moveTo>
                  <a:lnTo>
                    <a:pt x="41" y="0"/>
                  </a:lnTo>
                  <a:lnTo>
                    <a:pt x="23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3760" y="4826160"/>
              <a:ext cx="82080" cy="101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0" y="4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73600" y="5803920"/>
            <a:ext cx="393120" cy="360"/>
            <a:chOff x="3873600" y="5803920"/>
            <a:chExt cx="393120" cy="360"/>
          </a:xfrm>
        </p:grpSpPr>
        <p:sp>
          <p:nvSpPr>
            <p:cNvPr id="215" name=""/>
            <p:cNvSpPr/>
            <p:nvPr/>
          </p:nvSpPr>
          <p:spPr>
            <a:xfrm>
              <a:off x="3873600" y="5803920"/>
              <a:ext cx="393120" cy="36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0" y="0"/>
                  </a:moveTo>
                  <a:lnTo>
                    <a:pt x="188" y="0"/>
                  </a:lnTo>
                  <a:lnTo>
                    <a:pt x="22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06760" y="5765760"/>
            <a:ext cx="393480" cy="101160"/>
            <a:chOff x="4406760" y="5765760"/>
            <a:chExt cx="393480" cy="101160"/>
          </a:xfrm>
        </p:grpSpPr>
        <p:sp>
          <p:nvSpPr>
            <p:cNvPr id="217" name=""/>
            <p:cNvSpPr/>
            <p:nvPr/>
          </p:nvSpPr>
          <p:spPr>
            <a:xfrm>
              <a:off x="4406760" y="5817240"/>
              <a:ext cx="309600" cy="36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41" y="0"/>
                  </a:lnTo>
                  <a:lnTo>
                    <a:pt x="18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16360" y="5765760"/>
              <a:ext cx="83880" cy="101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0" y="4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57680" y="4876920"/>
            <a:ext cx="393120" cy="360"/>
            <a:chOff x="2857680" y="4876920"/>
            <a:chExt cx="393120" cy="360"/>
          </a:xfrm>
        </p:grpSpPr>
        <p:sp>
          <p:nvSpPr>
            <p:cNvPr id="220" name=""/>
            <p:cNvSpPr/>
            <p:nvPr/>
          </p:nvSpPr>
          <p:spPr>
            <a:xfrm>
              <a:off x="2857680" y="4876920"/>
              <a:ext cx="393120" cy="36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0" y="0"/>
                  </a:moveTo>
                  <a:lnTo>
                    <a:pt x="188" y="0"/>
                  </a:lnTo>
                  <a:lnTo>
                    <a:pt x="22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12800" y="1066680"/>
            <a:ext cx="672840" cy="634680"/>
            <a:chOff x="1612800" y="1066680"/>
            <a:chExt cx="672840" cy="634680"/>
          </a:xfrm>
        </p:grpSpPr>
        <p:sp>
          <p:nvSpPr>
            <p:cNvPr id="222" name=""/>
            <p:cNvSpPr/>
            <p:nvPr/>
          </p:nvSpPr>
          <p:spPr>
            <a:xfrm>
              <a:off x="1612800" y="1066680"/>
              <a:ext cx="672840" cy="634680"/>
            </a:xfrm>
            <a:custGeom>
              <a:avLst/>
              <a:gdLst/>
              <a:ahLst/>
              <a:rect l="l" t="t" r="r" b="b"/>
              <a:pathLst>
                <a:path w="410" h="384">
                  <a:moveTo>
                    <a:pt x="410" y="0"/>
                  </a:moveTo>
                  <a:lnTo>
                    <a:pt x="0" y="342"/>
                  </a:lnTo>
                  <a:lnTo>
                    <a:pt x="0" y="3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74640" y="1854360"/>
            <a:ext cx="101520" cy="482040"/>
            <a:chOff x="1574640" y="1854360"/>
            <a:chExt cx="101520" cy="482040"/>
          </a:xfrm>
        </p:grpSpPr>
        <p:sp>
          <p:nvSpPr>
            <p:cNvPr id="224" name=""/>
            <p:cNvSpPr/>
            <p:nvPr/>
          </p:nvSpPr>
          <p:spPr>
            <a:xfrm>
              <a:off x="1626120" y="1854360"/>
              <a:ext cx="360" cy="399960"/>
            </a:xfrm>
            <a:custGeom>
              <a:avLst/>
              <a:gdLst/>
              <a:ahLst/>
              <a:rect l="l" t="t" r="r" b="b"/>
              <a:pathLst>
                <a:path w="0" h="237">
                  <a:moveTo>
                    <a:pt x="0" y="0"/>
                  </a:moveTo>
                  <a:lnTo>
                    <a:pt x="0" y="41"/>
                  </a:lnTo>
                  <a:lnTo>
                    <a:pt x="0" y="23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4640" y="2254320"/>
              <a:ext cx="101520" cy="82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4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